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B18-FB59-4764-A9A1-F84EC276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98B-3F17-4AE0-ACE8-C497252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EC6-EFE2-43D4-8BB3-CEECBAAA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CB7-8E40-4343-8B7E-B4CA736C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F405-1CA6-4A39-8690-207F562C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3004-CABA-45AC-B719-C670C5C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603C-0790-4008-AC52-D0655FDA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854B-55FD-4ECE-870B-0DAD4B9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E278-ED8F-4DD9-8654-11D5369F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1A90-1A29-44B5-BECB-71E27207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675-AB7D-4DB1-AB16-259C9E4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DBD-40D5-44B5-BC86-6EE9F73C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082-8AF9-4D73-B673-79A52A2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1B11-63BF-4A76-8AF4-EA0BA0F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AA39-9BED-4B4E-9C07-15E30813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A777-AEE1-41F6-B71A-06287265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8216-BECA-4FCC-B15F-5864D08C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682-BF35-42B8-AF85-DA6499B1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4DE-8333-4339-B7E3-A35BA592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2E6-B2C3-4BE4-9A72-74E865C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E8A-51C2-4896-B355-1B81341D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DA9-70D1-4DC7-BC34-8018379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32C-7098-4E46-830C-6790DC4C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256-79ED-4E0A-8A1A-025E3C8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0AA-3F34-4E48-A0A1-E514476FFED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91AD-3832-4324-86D0-CE5F78116706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TAREAS DEL ALUMN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627280" y="2852640"/>
            <a:ext cx="352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ntorn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en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la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labor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lanificació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erven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flex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4" descr="ual_escudo"/>
          <p:cNvPicPr/>
          <p:nvPr/>
        </p:nvPicPr>
        <p:blipFill>
          <a:blip r:embed="rId1"/>
          <a:stretch/>
        </p:blipFill>
        <p:spPr>
          <a:xfrm>
            <a:off x="0" y="0"/>
            <a:ext cx="1116000" cy="1106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979640" y="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Universidad de Almería. Curso 11/12. Practicum I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184720" y="6453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auricio Rodríguez (maurirrr@ual.e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l cent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ituación geográfica, socioeconómica y cultural de la zo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Origen socioeconómico y cultural de las familias (a través de los alumno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ipo de cen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tapas educativas que atien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úmero de líneas que lo constituy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úmero de alumnos que aco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úmero de profesores y situ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ipo y número de espacios disponib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Recursos materi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l cent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tructura del centro (equipo directivo, claustro, departamentos didácticos, comisiones, coordinaciones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articipación de otras entidades (AMPA, Consejo Escolar, Asociaciones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Otros servicios escolares (comedor, transporte, atención extraescolar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ctividades complementarias (deportivas, culturales, musicales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l Regla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2360160"/>
            <a:ext cx="82263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rmas de conviv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royecto de conviv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royecto “Escuela espacio de paz” (si hubier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lan LEC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rmas para el uso de los espaci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 la cl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bicación dentro del centro (dimensiones, iluminación, rincones, zonas de trabajo y juego…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stribución del mobiliario (mesas, armarios, recursos, equipos informáticos…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iterio para ubicación del alumn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iblioteca de aula (si hubier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scoteca de aula/Material Lab./Mat. Ed. Físic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cursos multimedia (si hubier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 la cl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stribución de la jornada esco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Horario esco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cursos didácticos asociados al horario (tareas de primera hora, en cambios de actividad, al volver del recreo, al final de la mañan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Observación de la clase: dinámicas de grup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ormación y/o existencia de grupos y subgrup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resencia de líde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Grado de aceptación en el grup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omento de la particip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umplimiento de las nor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stribución de responsabilida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operación en activida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lación profesor-alum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Observación de la clase: características psicológic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Características familiares (estudio padres, nº hermanos, profesion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Grado de autonomía person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Hábitos de higiene y aliment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Habilidades motrices básic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Participación en jueg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sarrollo motriz (coordinación, motricidad fina y gruesa…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Interés y motivación hacia el aprendiza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strezas lingüístic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utoestima, respeto a las reglas, actitudes hacia los compañeros, 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NEAE (Alumnos con Necesidades Específicas de Apoyo Educativo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ERVENCIÓN EDUC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rogramación escri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so de medios didáctic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aboración de los materiales necesari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uscar estrategias de motivación y aten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uscar estrategias para fomentar la creatividad y crear hábitos de orden y limpie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cursos para la evaluació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26836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Ver documento sobre los elementos esenciales de la unidad didáctic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7:10:43Z</dcterms:created>
  <dc:creator>iquesada</dc:creator>
  <dc:description/>
  <dc:language>en-US</dc:language>
  <cp:lastModifiedBy>mauri</cp:lastModifiedBy>
  <dcterms:modified xsi:type="dcterms:W3CDTF">2012-02-29T05:33:11Z</dcterms:modified>
  <cp:revision>11</cp:revision>
  <dc:subject/>
  <dc:title>TAREAS DEL ALUMNO</dc:title>
</cp:coreProperties>
</file>